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F1B-B931-4483-819C-E7532D5C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A1E-C2CF-491F-9952-42F5919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18E-E5E9-4F62-8D69-B3BB4A9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655-76D3-404E-B678-82BF71D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301-53D6-4DF8-A9C4-B0F42FD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740-4AC0-401A-9539-781EAE4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4D1-5B33-43CC-A64F-092E0CB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2C6-3E25-4373-B4C8-56CF635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99E-A49C-41CE-8AFB-A8FE918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699-2244-4AB8-A97D-BE5772D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F82-25F2-4208-A3D0-854FFB5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DE6-F038-49FF-A16E-BFA7BD3D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7D4-7908-4A67-9157-28AD4FC013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Big picture transport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precision fails and approximation succ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Don\My Documents\PrintScreen Files\ScreenShot008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g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in modelling are underway at the regional and local levels – although these will not cover al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is currently a modelling ‘void’ at the inter-regional and nationa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time for a national modelling capability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ied demand model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are based on detailed representations of transport networks and on current behavi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demand modelling is much coarser grained but has more flexibility to consider behavioural responses – and could be said to represent ‘5th stage’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 review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a simplified demand model is the strategy review model (SRM) developed in 2008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M builds on current model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lasticities, cross elasticities, diversion rates and impac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applied at the local, regional and national level for sensitivity testing and policy development purpos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4"/>
          <p:cNvSpPr/>
          <p:nvPr/>
        </p:nvSpPr>
        <p:spPr>
          <a:xfrm>
            <a:off x="3204360" y="260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ling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971640" y="476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684720" y="630864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7288200" y="5734080"/>
            <a:ext cx="1152360" cy="5745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ational &amp; Re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Comparative 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3419640" y="2567160"/>
            <a:ext cx="2160360" cy="151128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Urba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tropoli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3637080" y="4511520"/>
            <a:ext cx="1584360" cy="9367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ter-Z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7"/>
          <p:cNvSpPr/>
          <p:nvPr/>
        </p:nvSpPr>
        <p:spPr>
          <a:xfrm>
            <a:off x="755640" y="1271520"/>
            <a:ext cx="1297080" cy="11509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2268360" y="2135160"/>
            <a:ext cx="1152720" cy="5745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Urban &amp; 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 Mod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5724360" y="3863880"/>
            <a:ext cx="1152720" cy="5749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7237440" y="4295880"/>
            <a:ext cx="1297080" cy="11523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2014560" y="2019240"/>
            <a:ext cx="433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>
            <a:off x="3249720" y="2620800"/>
            <a:ext cx="431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6724800" y="4348080"/>
            <a:ext cx="576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7"/>
          <p:cNvSpPr/>
          <p:nvPr/>
        </p:nvSpPr>
        <p:spPr>
          <a:xfrm flipV="1">
            <a:off x="5221440" y="4367160"/>
            <a:ext cx="647640" cy="43200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2268360" y="4008600"/>
            <a:ext cx="1152720" cy="57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Inter-Z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 Mod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1476360" y="2422440"/>
            <a:ext cx="1009800" cy="165744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1"/>
          <p:cNvSpPr/>
          <p:nvPr/>
        </p:nvSpPr>
        <p:spPr>
          <a:xfrm>
            <a:off x="7885080" y="54468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>
            <a:off x="3348000" y="447840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5437080" y="371952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7093080" y="2060640"/>
            <a:ext cx="1657080" cy="100944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5580000" y="2637000"/>
            <a:ext cx="1513080" cy="57600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6"/>
          <p:cNvSpPr/>
          <p:nvPr/>
        </p:nvSpPr>
        <p:spPr>
          <a:xfrm flipV="1">
            <a:off x="7883640" y="3070080"/>
            <a:ext cx="0" cy="115272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77"/>
          <p:cNvSpPr/>
          <p:nvPr/>
        </p:nvSpPr>
        <p:spPr>
          <a:xfrm>
            <a:off x="2842920" y="26028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RM Urban and Metropolitan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78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631360" cy="57546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073"/>
          <p:cNvSpPr/>
          <p:nvPr/>
        </p:nvSpPr>
        <p:spPr>
          <a:xfrm>
            <a:off x="971640" y="476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886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8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148360" y="1782720"/>
            <a:ext cx="172404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45949"/>
              <a:gd name="adj5" fmla="val 117837"/>
              <a:gd name="adj6" fmla="val -76152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able map 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6" descr=""/>
          <p:cNvPicPr/>
          <p:nvPr/>
        </p:nvPicPr>
        <p:blipFill>
          <a:blip r:embed="rId2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9"/>
          <p:cNvSpPr/>
          <p:nvPr/>
        </p:nvSpPr>
        <p:spPr>
          <a:xfrm>
            <a:off x="4716360" y="3716280"/>
            <a:ext cx="1511280" cy="12970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0"/>
          <p:cNvSpPr/>
          <p:nvPr/>
        </p:nvSpPr>
        <p:spPr>
          <a:xfrm>
            <a:off x="684720" y="630864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7769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084720" y="1557360"/>
            <a:ext cx="2521080" cy="107964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21472"/>
              <a:gd name="adj5" fmla="val 111615"/>
              <a:gd name="adj6" fmla="val -108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just model settings using sliders and drop down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7020000" y="328464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V="1">
            <a:off x="7308720" y="263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684720" y="623736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6588000" y="4005360"/>
            <a:ext cx="2140200" cy="1150920"/>
          </a:xfrm>
          <a:prstGeom prst="borderCallout2">
            <a:avLst>
              <a:gd name="adj1" fmla="val 18750"/>
              <a:gd name="adj2" fmla="val -8333"/>
              <a:gd name="adj3" fmla="val 9930"/>
              <a:gd name="adj4" fmla="val -54152"/>
              <a:gd name="adj5" fmla="val -75861"/>
              <a:gd name="adj6" fmla="val -79078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solidat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987640" y="1916280"/>
            <a:ext cx="4680000" cy="122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02440" cy="6000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6948360" y="485640"/>
            <a:ext cx="165744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170212"/>
              <a:gd name="adj5" fmla="val 177083"/>
              <a:gd name="adj6" fmla="val -2938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sults summarised for modelled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948360" y="2060640"/>
            <a:ext cx="1657440" cy="107928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12833"/>
              <a:gd name="adj5" fmla="val 53972"/>
              <a:gd name="adj6" fmla="val -75476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argets, BAU and modelle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2340000" y="2637000"/>
            <a:ext cx="381636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7236000" y="5445000"/>
            <a:ext cx="1223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planning an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planning - the operation, management and adjustment of the transport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d techniques (analysis assessment and forecasting)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of different types are available to assist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25440" y="647640"/>
            <a:ext cx="549612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rativ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mparing region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ing and Cycling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Patronag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OV VKT per capita 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VKT at E and F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peed b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2 Volum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Co2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PT Patronag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er Capita VKT at E and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Walking and Cycling Trips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ing and Cycling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 Driver Model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 Passenger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Co2 Targe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PT Trips Targe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Walking and Cycling Trips Target by 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4099" t="13232" r="6993" b="6514"/>
          <a:stretch/>
        </p:blipFill>
        <p:spPr>
          <a:xfrm>
            <a:off x="4500720" y="189000"/>
            <a:ext cx="2808000" cy="190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2"/>
          <a:srcRect l="5045" t="12636" r="7744" b="6429"/>
          <a:stretch/>
        </p:blipFill>
        <p:spPr>
          <a:xfrm>
            <a:off x="5940360" y="1557360"/>
            <a:ext cx="273708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3"/>
          <a:srcRect l="6572" t="12277" r="9381" b="5404"/>
          <a:stretch/>
        </p:blipFill>
        <p:spPr>
          <a:xfrm>
            <a:off x="5364000" y="3213000"/>
            <a:ext cx="2665440" cy="19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4"/>
          <a:srcRect l="4868" t="13010" r="7337" b="5702"/>
          <a:stretch/>
        </p:blipFill>
        <p:spPr>
          <a:xfrm>
            <a:off x="6300720" y="4869000"/>
            <a:ext cx="266400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mathematicians in supporting the development of new techniques - especially in the field of simplified demand mod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in terms of how the robustness and validity of models can be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xample, the treatment of arc-based elasti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operational research in optimising target pro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sing the good (public transport, walking and cyc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ing the bad (travel time variability, single occupant vehicles, emissio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given constraints – such as cost and 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Documents and Settings\Don\My Documents\PrintScreen Files\ScreenShot009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transpo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Don\My Documents\PrintScreen Files\ScreenShot022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Don\My Documents\PrintScreen Files\ScreenShot024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Don\My Documents\PrintScreen Files\ScreenShot003.jpg"/>
          <p:cNvPicPr/>
          <p:nvPr/>
        </p:nvPicPr>
        <p:blipFill>
          <a:blip r:embed="rId2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Don\My Documents\PrintScreen Files\ScreenShot023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planning has not delivered on broader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ason for this is the reliance on narrowly focused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ason is the failure to apply strategic  techniques to assist in seeing the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current transport modelling efforts in NZ has been to perpetuate ‘business as usua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most trends (emissions, delay, reliability, choice, accessibility, equity) will continue to move in the wro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national targets for transport will not be achieved using current approa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it have to be this 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there is a commitment to better analysis, assessment and fore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chniques and models already exist – but they need to be well developed and appropriately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may cover 3 stages: trip generation / attraction, trip distribution, and trip assignment.  4 stage models also have a mode spli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nd 4 stage models use distribution functions such as 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α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 is often poor - induced or suppressed demand is not allowed for –  and ‘implied elasticities’ may b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are good at predicting ‘business as usual’ (expected land-use, population, car ownership and  on the basis of current policies and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to test policies, strategies, packages and program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dels are single stage and only deal with traffic engineering iss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are used to provide information for economic appraisal – the benefit cost ratio – very influential in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age models – often appear to be very precise – especially micro-simulation – very impressive visually and useful for sorting out some issues – but not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Don\My Documents\PrintScreen Files\ScreenShot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3:27:34Z</dcterms:created>
  <dc:creator>pf</dc:creator>
  <dc:description/>
  <dc:language>en-US</dc:language>
  <cp:lastModifiedBy> </cp:lastModifiedBy>
  <dcterms:modified xsi:type="dcterms:W3CDTF">2008-12-01T07:20:16Z</dcterms:modified>
  <cp:revision>117</cp:revision>
  <dc:subject/>
  <dc:title>Modelling Choices</dc:title>
</cp:coreProperties>
</file>