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67C-4EAE-431C-BD49-D14AC846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B4F-E747-43D3-8375-C1205E98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82B-126E-4408-97F4-0108F365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62A-4DFE-41E3-8464-A08F33A7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FEE-6679-454D-91D5-2E96082B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3C5-3BA2-4C7B-8E08-04EEFA9F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4D5-01C1-4E7B-BE45-6DC231B1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C40-9E60-422D-81F0-A8525196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45A-DC47-4507-921C-C35B5299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14A-AD1B-4749-91EE-3847CC9E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BEE-D559-4706-B84B-C9669D4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395-1AE1-4E40-A45C-8F2F6F6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511E-6D13-4867-AB0D-4FF608CA21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Big picture transport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precision fails and approximation succ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6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1224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Don\My Documents\PrintScreen Files\ScreenShot008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g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 in modelling are underway at the regional and local levels – although these will not cover all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re is currently a modelling ‘void’ at the inter-regional and national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time for a national modelling capability to be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ied demand model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ransport models are based on detailed representations of transport networks and on current behavi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demand modelling is much coarser grained but has more flexibility to consider behavioural responses – and could be said to represent ‘5th stage’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y review 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of a simplified demand model is the strategy review model (SRM) developed in 2008 in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M builds on current model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lasticities, cross elasticities, diversion rates and impact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been applied at the local, regional and national level for sensitivity testing and policy development purpos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4"/>
          <p:cNvSpPr/>
          <p:nvPr/>
        </p:nvSpPr>
        <p:spPr>
          <a:xfrm>
            <a:off x="3204360" y="260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odelling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971640" y="47628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684720" y="6308640"/>
            <a:ext cx="126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© Copyright TFL 200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7288200" y="5734080"/>
            <a:ext cx="1152360" cy="57456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National &amp; Re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Comparative Vie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7"/>
          <p:cNvSpPr/>
          <p:nvPr/>
        </p:nvSpPr>
        <p:spPr>
          <a:xfrm>
            <a:off x="3419640" y="2567160"/>
            <a:ext cx="2160360" cy="151128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Urba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etropolit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3637080" y="4511520"/>
            <a:ext cx="1584360" cy="93672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ter-Z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7"/>
          <p:cNvSpPr/>
          <p:nvPr/>
        </p:nvSpPr>
        <p:spPr>
          <a:xfrm>
            <a:off x="755640" y="1271520"/>
            <a:ext cx="1297080" cy="115092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4"/>
          <p:cNvSpPr/>
          <p:nvPr/>
        </p:nvSpPr>
        <p:spPr>
          <a:xfrm>
            <a:off x="2268360" y="2135160"/>
            <a:ext cx="1152720" cy="57456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Urban &amp; 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Location Mode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Data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5724360" y="3863880"/>
            <a:ext cx="1152720" cy="57492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Data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7237440" y="4295880"/>
            <a:ext cx="1297080" cy="115236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2014560" y="2019240"/>
            <a:ext cx="43344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>
            <a:off x="3249720" y="2620800"/>
            <a:ext cx="431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6724800" y="4348080"/>
            <a:ext cx="576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7"/>
          <p:cNvSpPr/>
          <p:nvPr/>
        </p:nvSpPr>
        <p:spPr>
          <a:xfrm flipV="1">
            <a:off x="5221440" y="4367160"/>
            <a:ext cx="647640" cy="43200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2268360" y="4008600"/>
            <a:ext cx="1152720" cy="57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Inter-Z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Location Mode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Data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9"/>
          <p:cNvSpPr/>
          <p:nvPr/>
        </p:nvSpPr>
        <p:spPr>
          <a:xfrm>
            <a:off x="1476360" y="2422440"/>
            <a:ext cx="1009800" cy="165744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1"/>
          <p:cNvSpPr/>
          <p:nvPr/>
        </p:nvSpPr>
        <p:spPr>
          <a:xfrm>
            <a:off x="7885080" y="544680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>
            <a:off x="3348000" y="4478400"/>
            <a:ext cx="43200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5437080" y="3719520"/>
            <a:ext cx="43200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7"/>
          <p:cNvSpPr/>
          <p:nvPr/>
        </p:nvSpPr>
        <p:spPr>
          <a:xfrm>
            <a:off x="7093080" y="2060640"/>
            <a:ext cx="1657080" cy="1009440"/>
          </a:xfrm>
          <a:prstGeom prst="ellipse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5580000" y="2637000"/>
            <a:ext cx="1513080" cy="57600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6"/>
          <p:cNvSpPr/>
          <p:nvPr/>
        </p:nvSpPr>
        <p:spPr>
          <a:xfrm flipV="1">
            <a:off x="7883640" y="3070080"/>
            <a:ext cx="0" cy="115272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77"/>
          <p:cNvSpPr/>
          <p:nvPr/>
        </p:nvSpPr>
        <p:spPr>
          <a:xfrm>
            <a:off x="2842920" y="260280"/>
            <a:ext cx="42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RM Urban and Metropolitan Mod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78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631360" cy="57546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073"/>
          <p:cNvSpPr/>
          <p:nvPr/>
        </p:nvSpPr>
        <p:spPr>
          <a:xfrm>
            <a:off x="971640" y="47628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8863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8">
            <a:hlinkClick r:id="" action="ppaction://hlinkshowjump?jump=nextslide"/>
          </p:cNvPr>
          <p:cNvSpPr/>
          <p:nvPr/>
        </p:nvSpPr>
        <p:spPr>
          <a:xfrm>
            <a:off x="611280" y="33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>
            <a:hlinkClick r:id="" action="ppaction://hlinkshowjump?jump=endshow"/>
          </p:cNvPr>
          <p:cNvSpPr/>
          <p:nvPr/>
        </p:nvSpPr>
        <p:spPr>
          <a:xfrm>
            <a:off x="1763640" y="33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>
            <a:hlinkClick r:id="" action="ppaction://hlinkshowjump?jump=previousslide"/>
          </p:cNvPr>
          <p:cNvSpPr/>
          <p:nvPr/>
        </p:nvSpPr>
        <p:spPr>
          <a:xfrm>
            <a:off x="1187280" y="333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5148360" y="1782720"/>
            <a:ext cx="1724040" cy="79236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45949"/>
              <a:gd name="adj5" fmla="val 117837"/>
              <a:gd name="adj6" fmla="val -76152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able map data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6" descr=""/>
          <p:cNvPicPr/>
          <p:nvPr/>
        </p:nvPicPr>
        <p:blipFill>
          <a:blip r:embed="rId2"/>
          <a:stretch/>
        </p:blipFill>
        <p:spPr>
          <a:xfrm>
            <a:off x="7020000" y="5373720"/>
            <a:ext cx="1224000" cy="1084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9"/>
          <p:cNvSpPr/>
          <p:nvPr/>
        </p:nvSpPr>
        <p:spPr>
          <a:xfrm>
            <a:off x="4716360" y="3716280"/>
            <a:ext cx="1511280" cy="12970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0"/>
          <p:cNvSpPr/>
          <p:nvPr/>
        </p:nvSpPr>
        <p:spPr>
          <a:xfrm>
            <a:off x="684720" y="6308640"/>
            <a:ext cx="126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© Copyright TFL 200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0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705800" cy="57769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>
            <a:hlinkClick r:id="" action="ppaction://hlinkshowjump?jump=nextslide"/>
          </p:cNvPr>
          <p:cNvSpPr/>
          <p:nvPr/>
        </p:nvSpPr>
        <p:spPr>
          <a:xfrm>
            <a:off x="611280" y="33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" action="ppaction://hlinkshowjump?jump=endshow"/>
          </p:cNvPr>
          <p:cNvSpPr/>
          <p:nvPr/>
        </p:nvSpPr>
        <p:spPr>
          <a:xfrm>
            <a:off x="1763640" y="33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1187280" y="333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6084720" y="1557360"/>
            <a:ext cx="2521080" cy="1079640"/>
          </a:xfrm>
          <a:prstGeom prst="borderCallout2">
            <a:avLst>
              <a:gd name="adj1" fmla="val 18750"/>
              <a:gd name="adj2" fmla="val -8333"/>
              <a:gd name="adj3" fmla="val 10587"/>
              <a:gd name="adj4" fmla="val -21472"/>
              <a:gd name="adj5" fmla="val 111615"/>
              <a:gd name="adj6" fmla="val -1085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just model settings using sliders and drop down se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7020000" y="3284640"/>
            <a:ext cx="288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V="1">
            <a:off x="7308720" y="26366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1224000" cy="1084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5"/>
          <p:cNvSpPr/>
          <p:nvPr/>
        </p:nvSpPr>
        <p:spPr>
          <a:xfrm>
            <a:off x="684720" y="6237360"/>
            <a:ext cx="126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© Copyright TFL 200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3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">
            <a:hlinkClick r:id="" action="ppaction://hlinkshowjump?jump=nextslide"/>
          </p:cNvPr>
          <p:cNvSpPr/>
          <p:nvPr/>
        </p:nvSpPr>
        <p:spPr>
          <a:xfrm>
            <a:off x="611280" y="33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" action="ppaction://hlinkshowjump?jump=endshow"/>
          </p:cNvPr>
          <p:cNvSpPr/>
          <p:nvPr/>
        </p:nvSpPr>
        <p:spPr>
          <a:xfrm>
            <a:off x="1763640" y="33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previousslide"/>
          </p:cNvPr>
          <p:cNvSpPr/>
          <p:nvPr/>
        </p:nvSpPr>
        <p:spPr>
          <a:xfrm>
            <a:off x="1187280" y="333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224000" cy="10843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6588000" y="4005360"/>
            <a:ext cx="2140200" cy="1150920"/>
          </a:xfrm>
          <a:prstGeom prst="borderCallout2">
            <a:avLst>
              <a:gd name="adj1" fmla="val 18750"/>
              <a:gd name="adj2" fmla="val -8333"/>
              <a:gd name="adj3" fmla="val 9930"/>
              <a:gd name="adj4" fmla="val -54152"/>
              <a:gd name="adj5" fmla="val -75861"/>
              <a:gd name="adj6" fmla="val -79078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nsolidate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2987640" y="1916280"/>
            <a:ext cx="4680000" cy="1223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5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02440" cy="60004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">
            <a:hlinkClick r:id="" action="ppaction://hlinkshowjump?jump=nextslide"/>
          </p:cNvPr>
          <p:cNvSpPr/>
          <p:nvPr/>
        </p:nvSpPr>
        <p:spPr>
          <a:xfrm>
            <a:off x="611280" y="33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" action="ppaction://hlinkshowjump?jump=endshow"/>
          </p:cNvPr>
          <p:cNvSpPr/>
          <p:nvPr/>
        </p:nvSpPr>
        <p:spPr>
          <a:xfrm>
            <a:off x="1763640" y="33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" action="ppaction://hlinkshowjump?jump=previousslide"/>
          </p:cNvPr>
          <p:cNvSpPr/>
          <p:nvPr/>
        </p:nvSpPr>
        <p:spPr>
          <a:xfrm>
            <a:off x="1187280" y="333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6948360" y="485640"/>
            <a:ext cx="1657440" cy="129564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170212"/>
              <a:gd name="adj5" fmla="val 177083"/>
              <a:gd name="adj6" fmla="val -2938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Results summarised for modelled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6948360" y="2060640"/>
            <a:ext cx="1657440" cy="1079280"/>
          </a:xfrm>
          <a:prstGeom prst="borderCallout2">
            <a:avLst>
              <a:gd name="adj1" fmla="val 18750"/>
              <a:gd name="adj2" fmla="val -8333"/>
              <a:gd name="adj3" fmla="val 10587"/>
              <a:gd name="adj4" fmla="val -12833"/>
              <a:gd name="adj5" fmla="val 53972"/>
              <a:gd name="adj6" fmla="val -75476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argets, BAU and modelle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2340000" y="2637000"/>
            <a:ext cx="3816360" cy="43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7236000" y="5445000"/>
            <a:ext cx="1223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planning an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planning - the operation, management and adjustment of the transport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ied techniques (analysis assessment and forecasting)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of different types are available to assist thes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" action="ppaction://hlinkshowjump?jump=endshow"/>
          </p:cNvPr>
          <p:cNvSpPr/>
          <p:nvPr/>
        </p:nvSpPr>
        <p:spPr>
          <a:xfrm>
            <a:off x="1763640" y="33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" action="ppaction://hlinkshowjump?jump=previousslide"/>
          </p:cNvPr>
          <p:cNvSpPr/>
          <p:nvPr/>
        </p:nvSpPr>
        <p:spPr>
          <a:xfrm>
            <a:off x="1187280" y="333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" action="ppaction://hlinkshowjump?jump=nextslide"/>
          </p:cNvPr>
          <p:cNvSpPr/>
          <p:nvPr/>
        </p:nvSpPr>
        <p:spPr>
          <a:xfrm>
            <a:off x="611280" y="33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25440" y="647640"/>
            <a:ext cx="549612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mparativ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mparing region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king and Cycling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Patronage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OV VKT per capita b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VKT at E and F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peed b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2 Volume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Co2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PT Patronage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Per Capita VKT at E and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Walking and Cycling Trips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Modespli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king and Cycling Modespli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 Driver Modelspli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 Passenger Modespli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Co2 Targe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PT Trips Target by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Capita Walking and Cycling Trips Target by 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rcRect l="4099" t="13232" r="6993" b="6514"/>
          <a:stretch/>
        </p:blipFill>
        <p:spPr>
          <a:xfrm>
            <a:off x="4500720" y="189000"/>
            <a:ext cx="2808000" cy="1900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2"/>
          <a:srcRect l="5045" t="12636" r="7744" b="6429"/>
          <a:stretch/>
        </p:blipFill>
        <p:spPr>
          <a:xfrm>
            <a:off x="5940360" y="1557360"/>
            <a:ext cx="2737080" cy="1905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3"/>
          <a:srcRect l="6572" t="12277" r="9381" b="5404"/>
          <a:stretch/>
        </p:blipFill>
        <p:spPr>
          <a:xfrm>
            <a:off x="5364000" y="3213000"/>
            <a:ext cx="2665440" cy="1957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"/>
          <p:cNvPicPr/>
          <p:nvPr/>
        </p:nvPicPr>
        <p:blipFill>
          <a:blip r:embed="rId4"/>
          <a:srcRect l="4868" t="13010" r="7337" b="5702"/>
          <a:stretch/>
        </p:blipFill>
        <p:spPr>
          <a:xfrm>
            <a:off x="6300720" y="4869000"/>
            <a:ext cx="2664000" cy="18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?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mathematicians in supporting the development of new techniques - especially in the field of simplified demand mode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in terms of how the robustness and validity of models can be im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xample, the treatment of arc-based elasti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6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1224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?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operational research in optimising target pro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sing the good (public transport, walking and cyc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sing the bad (travel time variability, single occupant vehicles, emissio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given constraints – such as cost and 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1224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:\Documents and Settings\Don\My Documents\PrintScreen Files\ScreenShot009.jpg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transpor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Don\My Documents\PrintScreen Files\ScreenShot022.jpg"/>
          <p:cNvPicPr/>
          <p:nvPr/>
        </p:nvPicPr>
        <p:blipFill>
          <a:blip r:embed="rId1"/>
          <a:stretch/>
        </p:blipFill>
        <p:spPr>
          <a:xfrm>
            <a:off x="119160" y="-380880"/>
            <a:ext cx="890568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Don\My Documents\PrintScreen Files\ScreenShot024.jpg"/>
          <p:cNvPicPr/>
          <p:nvPr/>
        </p:nvPicPr>
        <p:blipFill>
          <a:blip r:embed="rId1"/>
          <a:stretch/>
        </p:blipFill>
        <p:spPr>
          <a:xfrm>
            <a:off x="119160" y="-380880"/>
            <a:ext cx="8905680" cy="761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Don\My Documents\PrintScreen Files\ScreenShot003.jpg"/>
          <p:cNvPicPr/>
          <p:nvPr/>
        </p:nvPicPr>
        <p:blipFill>
          <a:blip r:embed="rId2"/>
          <a:stretch/>
        </p:blipFill>
        <p:spPr>
          <a:xfrm>
            <a:off x="119160" y="-380880"/>
            <a:ext cx="890568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Don\My Documents\PrintScreen Files\ScreenShot023.jpg"/>
          <p:cNvPicPr/>
          <p:nvPr/>
        </p:nvPicPr>
        <p:blipFill>
          <a:blip r:embed="rId1"/>
          <a:stretch/>
        </p:blipFill>
        <p:spPr>
          <a:xfrm>
            <a:off x="119160" y="-380880"/>
            <a:ext cx="890568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planning has not delivered on broader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ason for this is the reliance on narrowly focused mod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reason is the failure to apply strategic  techniques to assist in seeing the big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 of current transport modelling efforts in NZ has been to perpetuate ‘business as usua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most trends (emissions, delay, reliability, choice, accessibility, equity) will continue to move in the wrong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national targets for transport will not be achieved using current approa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it have to be this w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there is a commitment to better analysis, assessment and fore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chniques and models already exist – but they need to be well developed and appropriately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ntional model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ransport models may cover 3 stages: trip generation / attraction, trip distribution, and trip assignment.  4 stage models also have a mode spli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and 4 stage models use distribution functions such as 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α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ness is often poor - induced or suppressed demand is not allowed for –  and ‘implied elasticities’ may be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ntional model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ransport models are good at predicting ‘business as usual’ (expected land-use, population, car ownership and  on the basis of current policies and p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used to test policies, strategies, packages and program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ntional model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odels are single stage and only deal with traffic engineering issu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are used to provide information for economic appraisal – the benefit cost ratio – very influential in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stage models – often appear to be very precise – especially micro-simulation – very impressive visually and useful for sorting out some issues – but not 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Don\My Documents\PrintScreen Files\ScreenShot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23:27:34Z</dcterms:created>
  <dc:creator>pf</dc:creator>
  <dc:description/>
  <dc:language>en-US</dc:language>
  <cp:lastModifiedBy> </cp:lastModifiedBy>
  <dcterms:modified xsi:type="dcterms:W3CDTF">2008-12-01T07:20:16Z</dcterms:modified>
  <cp:revision>117</cp:revision>
  <dc:subject/>
  <dc:title>Modelling Choices</dc:title>
</cp:coreProperties>
</file>